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CDF0-A3CD-4EAA-B34B-EBFF3590C930}" type="datetime">
              <a:rPr b="0" lang="nl-BE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C4AD-0E15-4CAC-BF2B-778363C82028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295B-D6B8-4120-9FC0-6072AB706B31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Header Placeholder 4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INSPIRE PRESENTATION; 24/0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Header Placeholder 3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INSPIRE PRESENTATION; 24/0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BBE8-B956-4E13-8E48-9F050F8BEEAD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Header Placeholder 3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INSPIRE PRESENTATION; 24/0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BCAF-F722-408B-AAFB-9F7FC4D6016F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970440" y="882972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520" bIns="47520" anchor="b">
            <a:noAutofit/>
          </a:bodyPr>
          <a:p>
            <a:pPr algn="r">
              <a:tabLst>
                <a:tab algn="l" pos="0"/>
                <a:tab algn="l" pos="455760"/>
                <a:tab algn="l" pos="914400"/>
                <a:tab algn="l" pos="1371600"/>
                <a:tab algn="l" pos="1828800"/>
                <a:tab algn="l" pos="2287440"/>
                <a:tab algn="l" pos="2744640"/>
                <a:tab algn="l" pos="3203640"/>
                <a:tab algn="l" pos="3660840"/>
                <a:tab algn="l" pos="4118040"/>
                <a:tab algn="l" pos="4576680"/>
                <a:tab algn="l" pos="5033880"/>
                <a:tab algn="l" pos="5492880"/>
                <a:tab algn="l" pos="5950080"/>
                <a:tab algn="l" pos="6407280"/>
                <a:tab algn="l" pos="6865920"/>
                <a:tab algn="l" pos="7323120"/>
                <a:tab algn="l" pos="7780320"/>
                <a:tab algn="l" pos="8238960"/>
                <a:tab algn="l" pos="8696160"/>
                <a:tab algn="l" pos="9155160"/>
                <a:tab algn="l" pos="9601200"/>
                <a:tab algn="l" pos="10058400"/>
                <a:tab algn="l" pos="10515600"/>
              </a:tabLst>
            </a:pPr>
            <a:fld id="{DCE449D9-F8FD-4351-A44C-778EC852055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68560" y="696960"/>
            <a:ext cx="4673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898989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7"/>
          <p:cNvSpPr/>
          <p:nvPr/>
        </p:nvSpPr>
        <p:spPr>
          <a:xfrm>
            <a:off x="2843280" y="640080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ve &amp; Finance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457200" y="640080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ga-IE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eun_partnership"/>
          <p:cNvPicPr/>
          <p:nvPr/>
        </p:nvPicPr>
        <p:blipFill>
          <a:blip r:embed="rId2"/>
          <a:stretch/>
        </p:blipFill>
        <p:spPr>
          <a:xfrm>
            <a:off x="0" y="0"/>
            <a:ext cx="2482920" cy="107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ED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veraging Innovation for a Network of Knowledge on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280" y="2707920"/>
            <a:ext cx="7643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LIFE LONG LEARNING PROGRAMME LL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ADMINISTRATIVE &amp; FINANC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OVERVIEW FOR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828E-239E-45CA-AC93-676BF7BA7F00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eral Principles of Eligibility (II.14.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29920" y="1285560"/>
            <a:ext cx="82184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ported costs are actu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(real) cost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– not just estimated or budgeted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pect principle of economy and cost effec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urred during the duration of the project (February 1st 20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3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January 20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corded and verifiable in the accounts of the Part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Must be connected with the execution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6F8E-95BC-4C01-948D-35E8A1A9D09C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964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rect Co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ersonnel.jpg"/>
          <p:cNvPicPr/>
          <p:nvPr/>
        </p:nvPicPr>
        <p:blipFill>
          <a:blip r:embed="rId1"/>
          <a:stretch/>
        </p:blipFill>
        <p:spPr>
          <a:xfrm>
            <a:off x="380880" y="2502000"/>
            <a:ext cx="2346480" cy="275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travel.jpg"/>
          <p:cNvPicPr/>
          <p:nvPr/>
        </p:nvPicPr>
        <p:blipFill>
          <a:blip r:embed="rId2"/>
          <a:stretch/>
        </p:blipFill>
        <p:spPr>
          <a:xfrm>
            <a:off x="3429000" y="2286000"/>
            <a:ext cx="236700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eurostar.jpg"/>
          <p:cNvPicPr/>
          <p:nvPr/>
        </p:nvPicPr>
        <p:blipFill>
          <a:blip r:embed="rId3"/>
          <a:stretch/>
        </p:blipFill>
        <p:spPr>
          <a:xfrm>
            <a:off x="4648320" y="3797280"/>
            <a:ext cx="1638360" cy="200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hotel.jpg"/>
          <p:cNvPicPr/>
          <p:nvPr/>
        </p:nvPicPr>
        <p:blipFill>
          <a:blip r:embed="rId4"/>
          <a:stretch/>
        </p:blipFill>
        <p:spPr>
          <a:xfrm>
            <a:off x="2763720" y="3797280"/>
            <a:ext cx="1884600" cy="198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onsultancy.jpg"/>
          <p:cNvPicPr/>
          <p:nvPr/>
        </p:nvPicPr>
        <p:blipFill>
          <a:blip r:embed="rId5"/>
          <a:stretch/>
        </p:blipFill>
        <p:spPr>
          <a:xfrm>
            <a:off x="6762600" y="2133720"/>
            <a:ext cx="1860840" cy="153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onference.jpg"/>
          <p:cNvPicPr/>
          <p:nvPr/>
        </p:nvPicPr>
        <p:blipFill>
          <a:blip r:embed="rId6"/>
          <a:stretch/>
        </p:blipFill>
        <p:spPr>
          <a:xfrm>
            <a:off x="6458040" y="4611600"/>
            <a:ext cx="2361960" cy="14097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539640" y="205740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rso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3276720" y="1839960"/>
            <a:ext cx="27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&amp; subsistenc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6743880" y="168768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ontracting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6400800" y="42418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specific Cost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094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st Categorie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41264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rsonnel </a:t>
            </a:r>
            <a:r>
              <a:rPr b="0" lang="ga-IE" sz="36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Calibri"/>
              </a:rPr>
              <a:t>1 Timesheet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per </a:t>
            </a:r>
            <a:r>
              <a:rPr b="1" lang="ga-IE" sz="2400" spc="-1" strike="noStrike">
                <a:solidFill>
                  <a:srgbClr val="000000"/>
                </a:solidFill>
                <a:latin typeface="Calibri"/>
              </a:rPr>
              <a:t>person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working on project (The timesheet template will be provided to you by EU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ort actual days spent working on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port actual daily rates of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F0B0-C549-487A-9A79-70922613D444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rsonnel.jpg"/>
          <p:cNvPicPr/>
          <p:nvPr/>
        </p:nvPicPr>
        <p:blipFill>
          <a:blip r:embed="rId1"/>
          <a:stretch/>
        </p:blipFill>
        <p:spPr>
          <a:xfrm>
            <a:off x="6959520" y="204840"/>
            <a:ext cx="2032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A9BF-4066-4F95-B0E0-9922770C32C4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5640" y="171144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Calibri"/>
              </a:rPr>
              <a:t>You must not exceed the maximum rate as specified in the following tab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AA002733.png"/>
          <p:cNvPicPr/>
          <p:nvPr/>
        </p:nvPicPr>
        <p:blipFill>
          <a:blip r:embed="rId1"/>
          <a:stretch/>
        </p:blipFill>
        <p:spPr>
          <a:xfrm>
            <a:off x="1295280" y="334800"/>
            <a:ext cx="3121200" cy="1949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personnel.jpg"/>
          <p:cNvPicPr/>
          <p:nvPr/>
        </p:nvPicPr>
        <p:blipFill>
          <a:blip r:embed="rId2"/>
          <a:stretch/>
        </p:blipFill>
        <p:spPr>
          <a:xfrm>
            <a:off x="6959520" y="204840"/>
            <a:ext cx="2032200" cy="2386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6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796464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avel 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tual &amp; Economic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ote 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ravel from/to Non-EU/EEA countries needs prior approval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roject officer at the European Com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3B14-BE22-4E04-9904-4FA06AB14592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travel.jpg"/>
          <p:cNvPicPr/>
          <p:nvPr/>
        </p:nvPicPr>
        <p:blipFill>
          <a:blip r:embed="rId1"/>
          <a:stretch/>
        </p:blipFill>
        <p:spPr>
          <a:xfrm>
            <a:off x="6210360" y="685800"/>
            <a:ext cx="262872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urostar.jpg"/>
          <p:cNvPicPr/>
          <p:nvPr/>
        </p:nvPicPr>
        <p:blipFill>
          <a:blip r:embed="rId2"/>
          <a:stretch/>
        </p:blipFill>
        <p:spPr>
          <a:xfrm>
            <a:off x="7429680" y="2197080"/>
            <a:ext cx="1638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ABFA-A99C-4F41-9277-A1F3EE49F85E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Calibri"/>
              </a:rPr>
              <a:t>TRAVEL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1071360"/>
            <a:ext cx="83581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Calibri"/>
              </a:rPr>
              <a:t>DON’T FORGET TO KEEP ALL PROOF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Travel agency invoices , online bookings or train tickets – prices must be clearly 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When flying please keep boarding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When submitting financial report, please show receipts for all claimed tra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57120" y="4071960"/>
            <a:ext cx="1681200" cy="233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2214720" y="4071960"/>
            <a:ext cx="1857240" cy="2352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4286160" y="4071960"/>
            <a:ext cx="1619280" cy="2357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539640" y="40053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Boarding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4067280" y="3716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Invoice travel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4"/>
          <a:srcRect l="16261" t="18310" r="54441" b="9083"/>
          <a:stretch/>
        </p:blipFill>
        <p:spPr>
          <a:xfrm>
            <a:off x="6357960" y="4071960"/>
            <a:ext cx="1643040" cy="2290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6227640" y="3716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Online-book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8920" y="1341360"/>
            <a:ext cx="8472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bsistenc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Subsistence rate = per di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Actual costs = reimbursement of recei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You must be able to prove that you had an over night stay to claim the full day per di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Please submit hotel invoice with all travel and subsistence clai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ates to be used = the 07/07/2009 subsistence rates as detailed on the EC web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0D31-CA07-40A4-88DC-B36811DD3DE2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hotel.jpg"/>
          <p:cNvPicPr/>
          <p:nvPr/>
        </p:nvPicPr>
        <p:blipFill>
          <a:blip r:embed="rId1"/>
          <a:stretch/>
        </p:blipFill>
        <p:spPr>
          <a:xfrm>
            <a:off x="7086600" y="304920"/>
            <a:ext cx="18842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ubcontract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Calibri"/>
              </a:rPr>
              <a:t>No partner subcontracting </a:t>
            </a:r>
            <a:r>
              <a:rPr b="0" lang="fr-FR" sz="3200" spc="-1" strike="noStrike">
                <a:solidFill>
                  <a:srgbClr val="cc3300"/>
                </a:solidFill>
                <a:latin typeface="Calibri"/>
              </a:rPr>
              <a:t>costs have been foreseen in the LINKED bud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ritten approval from the Commission is required i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foreseen subcontracting i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5B82-57E5-4BC9-B483-21376CA68933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Consultancy.jpg"/>
          <p:cNvPicPr/>
          <p:nvPr/>
        </p:nvPicPr>
        <p:blipFill>
          <a:blip r:embed="rId1"/>
          <a:stretch/>
        </p:blipFill>
        <p:spPr>
          <a:xfrm>
            <a:off x="7054920" y="298440"/>
            <a:ext cx="18604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a-IE" sz="4400" spc="-1" strike="noStrike">
                <a:solidFill>
                  <a:srgbClr val="000000"/>
                </a:solidFill>
                <a:latin typeface="Calibri"/>
              </a:rPr>
              <a:t>Direct Costs (II.1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cost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sts for the organisation of workshops/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b site ho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b si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nting of dissemination materials at an external prin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ftware lic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st of certification of financial statements (Audit certific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lease provide invoices/proof of payment of all costs in this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6403-8B47-488F-B8BB-2BE070D66D43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conference.jpg"/>
          <p:cNvPicPr/>
          <p:nvPr/>
        </p:nvPicPr>
        <p:blipFill>
          <a:blip r:embed="rId1"/>
          <a:stretch/>
        </p:blipFill>
        <p:spPr>
          <a:xfrm>
            <a:off x="6199200" y="304920"/>
            <a:ext cx="2165400" cy="1293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web-design2.jpg"/>
          <p:cNvPicPr/>
          <p:nvPr/>
        </p:nvPicPr>
        <p:blipFill>
          <a:blip r:embed="rId2"/>
          <a:stretch/>
        </p:blipFill>
        <p:spPr>
          <a:xfrm>
            <a:off x="7137360" y="990720"/>
            <a:ext cx="1625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Calibri"/>
              </a:rPr>
              <a:t>INDIRECT COSTS (II.14.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UP TO 7% OF  THE TOTAL AMOUNT OF ALL ELIGIBLE DIRECT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EXAMPLES OF INDIRECT COST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Equipment related to admin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mmunication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Infrastructure costs (rent electricity heating) of premises where project is carri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Office su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Photocop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C775-FE7A-451A-9DB8-98BEE9EE8CE6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UN Management Te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Coordinator: EUN Management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cia Wasti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oline Kear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o Guilfo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ur role in the project is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ke charge of th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technical, financial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dministrative coordination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Check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ubmi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eliver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stribu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an intermediary between the partners and the European Commis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94AF-3B49-4F4E-85EE-7F25F9D1CC97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Ineligible costs (II.14.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no circumstances can the following                                  types of costs be considered as eligib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eturn on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bt and debt service char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sions for losses or potential future liabilities (provisions for contractual and moral obligations, fines, financial penalties and legal cost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T (unless beneficiary unable to recover 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s of opening and operating bank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s declared by the beneficiary and covered by an other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70BA-A078-4134-B31E-A9627FDECBE8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bank.jpg"/>
          <p:cNvPicPr/>
          <p:nvPr/>
        </p:nvPicPr>
        <p:blipFill>
          <a:blip r:embed="rId1"/>
          <a:stretch/>
        </p:blipFill>
        <p:spPr>
          <a:xfrm>
            <a:off x="6477120" y="152280"/>
            <a:ext cx="1433520" cy="215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j0289350.jpg"/>
          <p:cNvPicPr/>
          <p:nvPr/>
        </p:nvPicPr>
        <p:blipFill>
          <a:blip r:embed="rId2"/>
          <a:stretch/>
        </p:blipFill>
        <p:spPr>
          <a:xfrm>
            <a:off x="7467480" y="1752480"/>
            <a:ext cx="1501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uccessfully Completing LLP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valuabl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Grant Agreement [GA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swers the majority of your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escription of Work [DoW] – Annex 1 of the 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what you are expected to do and 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the work plan, expected results, budget distribution per work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the list of Deliverables with requested month of deli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lease be aware that any significant changes to the description of work will require approval by the Commission in the form of an amend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**Reviewers will evaluate your work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gainst the DoW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C2EF-B701-41E1-9D2A-1B49DC28C52E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stributing Payments to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nership agreements will be sent to you all in Apri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stalment (75% of your grant) will be paid to you within 60 days of your signed partnership agreement being received at the EUN offices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he balance payment will be paid to you within 60 days of the Agency approving the final report and the final financial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25CD-73AC-4E4A-93DD-EF8436C87A6A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Role of the Partn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 a partner, you wil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esigna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or more persons who will direct the work and ensure that the partner tasks (as specified in the work packages) are carried out to the required 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Forward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ata needed to draw up the deliverables to the coordina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Forward complete accurat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ancial statements to the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E8D0-3C58-4845-A6F3-051BD6F2F2C3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3995640" y="1260360"/>
            <a:ext cx="1116000" cy="863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08000" y="150336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Reporting to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143680" y="3809880"/>
            <a:ext cx="93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564000" y="4941720"/>
            <a:ext cx="1828800" cy="642960"/>
          </a:xfrm>
          <a:prstGeom prst="roundRect">
            <a:avLst>
              <a:gd name="adj" fmla="val 16667"/>
            </a:avLst>
          </a:prstGeom>
          <a:solidFill>
            <a:srgbClr val="b3b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4572000" y="2133360"/>
            <a:ext cx="1440" cy="72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79280" y="3311640"/>
            <a:ext cx="86407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484360" y="3002040"/>
            <a:ext cx="4230720" cy="614160"/>
          </a:xfrm>
          <a:prstGeom prst="roundRect">
            <a:avLst>
              <a:gd name="adj" fmla="val 16667"/>
            </a:avLst>
          </a:prstGeom>
          <a:solidFill>
            <a:srgbClr val="ff94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KED Managemen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8000" y="150336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Reporting to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08000" y="150336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ing to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216000" y="3411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orting to E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43E3-0981-40F1-A732-9067AD5E5F43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porting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3924360" y="3809880"/>
            <a:ext cx="93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ing 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Financial and Legal Mat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142884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o Guilfoyl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EUN Project Support Tea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administrative representative from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Partner organisation preferably from respective finance departments (details of this individual should be found on the Google doc)</a:t>
            </a:r>
            <a:r>
              <a:rPr b="0" lang="en-GB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9BEF-9972-460D-BE3E-70B05C62BD07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4500720" y="27856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2"/>
          <p:cNvSpPr/>
          <p:nvPr/>
        </p:nvSpPr>
        <p:spPr>
          <a:xfrm flipV="1">
            <a:off x="4500720" y="4220640"/>
            <a:ext cx="0" cy="9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929040" y="1857240"/>
            <a:ext cx="1116000" cy="863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214200" y="185724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Reporting to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57120" y="400068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Reporting to E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artner Reporting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Detailed financial report </a:t>
            </a:r>
            <a:r>
              <a:rPr b="1" i="1" lang="nl-BE" sz="2400" spc="-1" strike="noStrike">
                <a:solidFill>
                  <a:srgbClr val="000000"/>
                </a:solidFill>
                <a:latin typeface="Calibri"/>
              </a:rPr>
              <a:t>with</a:t>
            </a: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 supporting documents to be submitted to EUN at final report stage (Report due – 31st January 20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mplete</a:t>
            </a: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 a SHORT questionaire (which will be sent to you next month with your partnership agre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nl-BE" sz="2400" spc="-1" strike="noStrike">
                <a:solidFill>
                  <a:srgbClr val="000000"/>
                </a:solidFill>
                <a:latin typeface="Calibri"/>
              </a:rPr>
              <a:t>WHY IS THIS QUESTIONAIRE NECESSAR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nl-B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BE" sz="2200" spc="-1" strike="noStrike">
                <a:solidFill>
                  <a:srgbClr val="000000"/>
                </a:solidFill>
                <a:latin typeface="Calibri"/>
              </a:rPr>
              <a:t>TO ENSURE THAT YOUR COSTS ARE ELIGIBLE AND ARE CONSISTENT WITH THOSE PROJECTED IN THE PROPOS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7C0B-27A9-4F1C-8CF8-2637251C307A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Calibri"/>
              </a:rPr>
              <a:t>Reporting on LLP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912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nl-BE" sz="2400" spc="-1" strike="noStrike">
                <a:solidFill>
                  <a:srgbClr val="000000"/>
                </a:solidFill>
                <a:latin typeface="Calibri"/>
              </a:rPr>
              <a:t>Familiarise yourself with the following head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-funding prin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eporting templates (To be given to you at month 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Eligible and ineligble project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ules concerning Staff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LLP guidelines on Travel &amp; Subsistenc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Subcontrac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ules concerning Other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Indirect costs in LLP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ED2C-52F3-4CE9-A4DA-EA9581FAF5D4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E625-FD1A-4015-ADA1-8D32D25A5FCE}" type="slidenum">
              <a:rPr b="0" lang="nl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Calibri"/>
              </a:rPr>
              <a:t>CO-FUNDING PRINCI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90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is a EC GRANT PROJECT: part EC funded/part partnership fu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 TOTAL BUDGET = €248,980.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EC FUNDING (GRANT)  75% = €186,735.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NTRIBUTION FROM PARTNERS 25% = €62,245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KED Budget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19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929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57:50Z</dcterms:created>
  <dc:creator>PB CONSULT</dc:creator>
  <dc:description/>
  <dc:language>en-US</dc:language>
  <cp:lastModifiedBy>Administrator</cp:lastModifiedBy>
  <dcterms:modified xsi:type="dcterms:W3CDTF">2010-03-17T11:20:19Z</dcterms:modified>
  <cp:revision>204</cp:revision>
  <dc:subject/>
  <dc:title>INSPIRE</dc:title>
</cp:coreProperties>
</file>